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1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DCBB-6AD9-45BD-BA9C-07581EA2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A271-40D8-4289-B275-A5859925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CEE0-D337-4ED0-A611-80039245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17BC-AF39-41C2-885C-EA52A8F72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C54A-1EF3-41EE-A57E-CE07A63C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E2AE-3C43-49F5-99E5-3FBDEC45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6D9B-0B5D-428E-8C47-C83D8D99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4697-8670-4A54-A7C4-D670C667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C41D-2536-465A-840A-39FD69D6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B4BC-8088-44C4-8CFA-2FF574B3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ADF6-D1CB-4EA3-AB43-0D617EA4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69A9-11BF-4ABA-B073-F6742FDF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421C-11A6-410F-9DD7-5B8EEC5E4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19320" y="533520"/>
          <a:ext cx="655308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533520"/>
                    <a:ext cx="655308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6920" y="3504960"/>
            <a:ext cx="6913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Работу выполнил </a:t>
            </a:r>
            <a:br>
              <a:rPr sz="2400"/>
            </a:b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ученик </a:t>
            </a:r>
            <a:r>
              <a:rPr b="0" lang="ru-RU" sz="2400" spc="-1" strike="noStrike">
                <a:solidFill>
                  <a:srgbClr val="000080"/>
                </a:solidFill>
                <a:latin typeface="Times New Roman"/>
              </a:rPr>
              <a:t>4</a:t>
            </a: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 класса</a:t>
            </a:r>
            <a:br>
              <a:rPr sz="2400"/>
            </a:b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гимназии № 6 г. Перми</a:t>
            </a:r>
            <a:br>
              <a:rPr sz="2400"/>
            </a:b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Нешатаев Михаил</a:t>
            </a:r>
            <a:br>
              <a:rPr sz="2400"/>
            </a:br>
            <a:r>
              <a:rPr b="0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Руководитель Литвиновская Наталья Юрьевн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Пермь  200</a:t>
            </a:r>
            <a:r>
              <a:rPr b="1" i="1" lang="en-US" sz="2000" spc="-1" strike="noStrike">
                <a:solidFill>
                  <a:srgbClr val="00008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371600" y="1143000"/>
          <a:ext cx="5943600" cy="207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1143000"/>
                    <a:ext cx="5943600" cy="20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3C98-2F26-4FAB-B2D6-426D53E299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6858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редине 19 века на вооружение армий и флотов приняты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ы и торпед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09480" y="3886200"/>
          <a:ext cx="4191120" cy="26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86200"/>
                    <a:ext cx="419112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5029200" y="3809880"/>
            <a:ext cx="34290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ragmaticaKMM"/>
                <a:ea typeface="Times New Roman"/>
              </a:rPr>
              <a:t>Автоматическое оружие: 1 — самозарядная снайперская винтовка системы Драгунова образца 1963 (СВД); 2 — единый пулемет системы Калашникова образца 1961 (ПКМ); 3 — самозарядный пистолет системы Макарова образца 1951 (ПМ); 4 — автомат системы Калашникова образца 1974 (АКС-74)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8195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ым этапом в развитии оружия стало появление в конце 19 век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го оруж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ушка, пулемет и др.) и миномет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429000" y="1406520"/>
          <a:ext cx="1981080" cy="114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1406520"/>
                    <a:ext cx="19810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B50C-25B7-4C0D-B746-A4771F8BC3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09480" y="6858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-й мировой войне использовались танки, самолеты, зенитные орудия, а также авиационные, глубинные бомбы и др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181480" y="1371600"/>
            <a:ext cx="2784600" cy="2971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105520" y="396252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ragmaticaKMM"/>
                <a:ea typeface="Times New Roman"/>
              </a:rPr>
              <a:t>Танки: 1 — легкий танк БТ-7 (1935); 2 — средний танк Т-34-85 (1944)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3790800" cy="2406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33520" y="510552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войны германские войска применил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ое оружи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газы хлор, иприт и другие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7C91-58FD-4D44-ACB1-88C50607A4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45720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2-й мировой войне получили распространение самоходные установки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тивные установк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 названием «Катюша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2904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743200" y="1295280"/>
          <a:ext cx="308628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295280"/>
                    <a:ext cx="308628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609480" y="365760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44 немецкие войска начали использовать управляемые самолеты-снаряды Фау-1 и баллистические ракеты Фау-2, а в августе 1945 США применили совершенно новый вид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ерное оруж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5760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352680" y="4724280"/>
          <a:ext cx="1828800" cy="12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4724280"/>
                    <a:ext cx="182880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B938-E794-49DF-BB60-42AAE858B0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2438280"/>
            <a:ext cx="8382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ие новых физических законов и источников энергии приводит к появлению новых, более эффективных видов оружия. Эффективность современного оружия зависит от дальности действия, зоны поражения, точности стрельбы, скорострельности, маневренности и других боевых качест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1940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257800" y="4267080"/>
          <a:ext cx="2895480" cy="181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4267080"/>
                    <a:ext cx="2895480" cy="18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334120" y="380880"/>
            <a:ext cx="2895480" cy="1838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295280" y="304920"/>
            <a:ext cx="2819520" cy="1927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371600" y="4325760"/>
            <a:ext cx="2438280" cy="184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2A79-CB2D-46CA-BD58-5D26DA6FA0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38080" y="685800"/>
            <a:ext cx="762012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по масштабам поражающего действия различаю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ужие массового поражения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дерное, химическое, бактериологическо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ое оружие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олодное (метательное, ударное, колющее, рубящее)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нестрельное (артиллерийское, стрелковое и оружие ближнего боя), реактивно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наземные, авиационные, морские системы залпового огня и реактивные гранатометы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акетное, минно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для стрельбы из минометов и для устройства взрывных заграждений) 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рпедное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асштабам применения оружие делится н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ческое, оперативно-тактическое и тактическое оружи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м образом, мы рассмотрели краткую историю оружия от древности до наших дн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31B1-E755-47C7-949D-0362F5D127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История оруж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стория человечества неразрывно связана с войнами между народами. Захват новых территорий, борьба с набегами врагов, защита интересов государства - все это требовало развития военного дела, воспитания силы и мужества воинов, дисциплины, четкой организации войска - это решало исход сражения. Война разрушала города, уничтожала целые народы. Но война была не только разрушительной силой. Ученые разных времен трудились над новыми технологиями производства оружия. Развитие инженерной мысли вело к прогрессу, война становилась стимулом к открытию нового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авайте проследим, как возникло и развивалось оружие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AC7C-E53E-4DD5-AD76-A63E7A0064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2520" y="609120"/>
            <a:ext cx="3429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УЖИ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бщее название устройств и средств, применяемых для уничтожения противника, его техники и сооружений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7960" y="3276360"/>
            <a:ext cx="38098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оружия существует столько же, сколько сама история человечества: от дубины до термоядерного и космического оружия, от лука до сверхзвуковых самолетов, от камня до лазерных установок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9584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_x0013__x0010_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809880" cy="385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CB1E-221C-4774-A3B2-D1C95B8ED3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457200"/>
            <a:ext cx="4419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ужие появилось на ранней стадии развития человечества в первобытном обществе как средство охоты и защиты. Различий между орудиями труда и оружием тогда еще не было. Первые виды оружия были – дубина, деревянное копье, каменный топор и другие, то есть в древнейшую эпоху возникло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ужие ударное и метательно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хоты на мелких и быстро бегающих животных людям потребовалось создать оружие, которым можно поразить цель на большом расстоянии. Люди заметили, что согнутое деревце распрямляется с силой. Это свойство деревьев помогло сделать величайшее изобретение - охотничий лук и стрелы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19920" y="4419720"/>
            <a:ext cx="1422360" cy="1600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лучники"/>
          <p:cNvPicPr/>
          <p:nvPr/>
        </p:nvPicPr>
        <p:blipFill>
          <a:blip r:embed="rId2"/>
          <a:stretch/>
        </p:blipFill>
        <p:spPr>
          <a:xfrm>
            <a:off x="5675400" y="838080"/>
            <a:ext cx="2733480" cy="304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BE15-07FC-44C0-AED5-CDBAE256A6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58672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рбал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овершенствованный лук –арбалет – впервые появился к 500 годам до нашей эры в Китае, к 12 веку он распространился в Европе. Его преимуществами были большая пробивная сила и дальность стрельбы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8128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뿷bb" descr=""/>
          <p:cNvPicPr/>
          <p:nvPr/>
        </p:nvPicPr>
        <p:blipFill>
          <a:blip r:embed="rId1"/>
          <a:stretch/>
        </p:blipFill>
        <p:spPr>
          <a:xfrm>
            <a:off x="533520" y="3657600"/>
            <a:ext cx="4267080" cy="2000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арбалетчик"/>
          <p:cNvPicPr/>
          <p:nvPr/>
        </p:nvPicPr>
        <p:blipFill>
          <a:blip r:embed="rId2"/>
          <a:stretch/>
        </p:blipFill>
        <p:spPr>
          <a:xfrm>
            <a:off x="5334120" y="990720"/>
            <a:ext cx="240012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A2BE-C06C-47D7-A9BE-428553D902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62916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뿷bb" descr=""/>
          <p:cNvPicPr/>
          <p:nvPr/>
        </p:nvPicPr>
        <p:blipFill>
          <a:blip r:embed="rId1"/>
          <a:stretch/>
        </p:blipFill>
        <p:spPr>
          <a:xfrm>
            <a:off x="6248520" y="685800"/>
            <a:ext cx="1885680" cy="3429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838080"/>
            <a:ext cx="5410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влияние на развитие оружия оказало использование металла. Так были созданы бронзовые и железные мечи, копья, позднее сабли (так называемо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одное оружи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2904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뿷bb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4952880" cy="2057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78612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019920" y="4419720"/>
          <a:ext cx="2209680" cy="158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4419720"/>
                    <a:ext cx="2209680" cy="15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D51A-3551-4B62-9EF3-87A4404DCB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1440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952880" y="3352680"/>
          <a:ext cx="388620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352680"/>
                    <a:ext cx="388620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80880" y="914400"/>
            <a:ext cx="601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илась булава – усовершенствованная дубина с металлическим шипом на конц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8612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477120" y="533520"/>
            <a:ext cx="1309680" cy="1447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220968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рмиях древних греков и римлян стали применяться метательные машин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57200" y="3505320"/>
            <a:ext cx="3962520" cy="198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0226-6F0E-46DE-B4CF-329D9BE179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45720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ткрытием пороха возникло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нестрельное оружи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в 12 веке у арабов, с 14 века в Западной Европе и на Руси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371600"/>
            <a:ext cx="85341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удия того времени представляли собой гладкостенные железные трубы (стволы), прикреплявшиеся к деревянным станкам и стрелявшие каменными снарядами (ядрами)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3838680" cy="2819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257800" y="2895480"/>
            <a:ext cx="3371760" cy="270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E20A-3EF5-4870-A53F-3F024CCE52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9480" y="45720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6 веке созданы первые образцы огнестрельного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езного оруж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ищаль, штуцер, мушкеты, пистолеты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солдат с ружьем"/>
          <p:cNvPicPr/>
          <p:nvPr/>
        </p:nvPicPr>
        <p:blipFill>
          <a:blip r:embed="rId1"/>
          <a:stretch/>
        </p:blipFill>
        <p:spPr>
          <a:xfrm>
            <a:off x="762120" y="1600200"/>
            <a:ext cx="2514600" cy="3962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4267080" y="1447920"/>
          <a:ext cx="3681360" cy="304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1447920"/>
                    <a:ext cx="368136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3962520" y="4572000"/>
            <a:ext cx="4572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ragmaticaKMM"/>
                <a:ea typeface="Times New Roman"/>
              </a:rPr>
              <a:t>Огнестрельное оружие: 1 — фитильный мушкет 16-17 вв.; 2 — русский кавалерийский пистолет образца 1810; 3 — охотничье курковое ружье начала 20 в.; 4 — трехлинейная магазинная винтовка системы Мосина образца 1891; 5 — револьвер системы Нагана образца 1895; 6 — станковый пулемет системы Максима образца 1910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E275-21C6-4110-BFC3-601198814C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14:40:42Z</dcterms:created>
  <dc:creator>*</dc:creator>
  <dc:description/>
  <dc:language>en-US</dc:language>
  <cp:lastModifiedBy>11</cp:lastModifiedBy>
  <dcterms:modified xsi:type="dcterms:W3CDTF">2006-01-20T10:45:08Z</dcterms:modified>
  <cp:revision>4</cp:revision>
  <dc:subject/>
  <dc:title>История оружия</dc:title>
</cp:coreProperties>
</file>